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E55-5FE2-4199-A274-E3469A2E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040-358F-48FB-9297-B4B785120F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817-B484-41AF-B839-7540D9309E6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4FFF-4FAD-48A6-BA27-E14BDF1052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1282-2F9C-4449-8F75-957CD46D8A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1C85-3EEF-4A98-A688-CB4F873698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A83-023E-4228-98AA-EBAFAD2A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19D-BC6D-492D-AF16-79BF6F61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DF5-8523-44AE-B4EF-C4BA7AF9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9CD-1F52-4438-BD0A-B3189BB7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48A1-6506-430A-9909-5FF9566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192B-5FFD-4970-A909-89163A4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799-25C9-40A5-8AF9-8345CA6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F567-0B06-427A-8FF1-E352383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3B86-488A-4284-BAF1-6AA2BD78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758-A1B7-440B-8DA6-9DDB55E4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E4C8-E061-4EEA-870B-6340FC7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BE6-9BC7-4CF1-B9A8-441C198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BC0-6785-4FE7-BD60-C51BB4A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DFE7-3AF9-48F6-AADB-3C46F59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35D-9EE6-49BF-B66C-C40AB503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BB3A-405A-49CF-8EF0-FEE17822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320-9B2F-436C-A13A-9E3AED87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802F-763B-4A26-9E5A-DFE5D96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A19C-4B5C-4EC1-B2F2-03F5561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4067-42A9-41BE-B0FD-B3B9A03E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EDC6-B636-4A28-8134-5B21711B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555D-C910-452F-9C06-809FA14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B78-14F9-4D4E-B98A-DCA010E0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C955-05E3-4F00-BC84-F3C46E5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3D8D-3E65-4BFF-80B0-8F5AD93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F52A-36FC-4CCC-A593-14F6E66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C3B0-FEAD-4846-9142-3D79AF1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C07D-1061-4B6E-96E9-8619C1F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F3F4-B67F-4BAD-A8FE-9386502A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0CED-71D2-4D30-96F0-8B743B7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22F7-D53A-4255-9CF3-E847E4CB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1E53-C6FC-4FD6-ACA7-B20B2D83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5600-8C06-483B-AF3F-469B612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A27-7A2F-4402-B45E-F0A9455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0D15-E386-424F-B0C2-6AE95C72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D6E0-3387-4265-860B-77DD65E7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29EE-7E7D-4414-88A0-5A4E5C5D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74F3-C201-491E-9E3D-DDEA008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03A9-F9B8-424A-A28A-9326CDA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D9DC-B90D-49AB-B92B-8781A0CF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B9BF-6786-460B-A2B9-C010785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1A3C-3EAD-455A-84AF-08D64F99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1F12-5B58-4FBC-B818-A991415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C49A-1CF8-4500-B35C-EEB8A88D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373-86A9-4402-82BC-BE7850FD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C7E2-A2DC-4E87-AE9F-A4A6EBA6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6D4E-A9E8-4790-8EAE-63389BB3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2769-AB55-441A-8785-C45745C4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16B11-4884-494F-BA4C-CB73AC79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F1812-9B8A-418A-B135-739668BC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7A4A-2350-4C56-82AC-35A2531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C983-85D4-405D-BDA7-CE0DA127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CE2D-54DE-4D04-BEA8-46979E3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3A1D-5BF0-400F-8F56-B7C2CCC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EAF0-178E-44BA-B069-2A02127B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648-DB92-49EE-9615-AA1DDD4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B20F-82E4-45EC-9EF4-39A2255E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0DCE-D2FA-45E2-8CA3-C0D4D3F5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00A0-BA62-4DBC-994F-BA8BBFB3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0F77-B973-47C6-89BF-59C2E33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F22E-3ACE-4CF9-9E29-DF4D3427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F7F3C-BD6E-4D9B-972B-00816626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494C-0D36-42F3-98A2-CF19B26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9C57-B408-43A8-AE8F-58FA0DE8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8A8C-3A0E-445F-80AD-9424F6A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218F-67B9-4BD5-A7BF-D00D70EF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DCF-88F6-40E8-95AC-9E43E69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2AD8-FD67-4CDD-BCEF-21FBEE7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FC4F-4B37-4684-917B-E73D42B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CF8F-0F41-4217-9706-D39697DB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2CFEB-87C1-4890-8E85-7B0F7BC4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518C-43FE-4C83-BB76-8F926F7A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FBDB-F8A4-4CB1-8561-6751741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C53E-B68E-4697-A15F-CC806B1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4CC8C-C9CC-4CCC-B480-4833255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010B5-E4B6-4CCD-8CCF-B3B19BA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849C-C20E-49B4-807E-44A87A9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04F-DC47-4005-8557-8C2F0B8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60C0-E65F-4531-800E-6ADBFEF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051CF-0AE5-4796-8860-3A5C397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B52C-8C78-474C-A8ED-DE4A542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06DC-7509-431E-84F5-57D7DBB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14AE3-A865-4072-9EDA-9902CC3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DCF-5623-46C6-B2E5-D3A6C80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E54-0533-488A-8DFB-22F0329AA26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E51F-F729-4FB0-80F0-A63BA9B207B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83C-7F7B-4A2E-A979-353C20F5480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8F2-80DE-4A5E-B45E-27CD6A6D263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C531-CA91-426C-A17E-B5B4402FAA8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AB5-1E12-4F1B-9AD1-84E0BD739B0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D85F-A8CA-4541-8065-5D367FC7AA2B}" type="datetime">
              <a:rPr b="0" lang="en-US" sz="1000" spc="-1" strike="noStrike">
                <a:solidFill>
                  <a:srgbClr val="9b9a98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A87-C61D-4D2A-B428-D011E6C95D8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D03-40E4-41A0-A96D-3DF4373360E8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36960" y="202680"/>
            <a:ext cx="6107040" cy="253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ТРАХОСПИТАЛНЕ</a:t>
            </a:r>
            <a:r>
              <a:rPr b="0" lang="sr-Latn-C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R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болничке или нозокомијалне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4726080" y="511812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Comic Sans MS"/>
              </a:rPr>
              <a:t>Проф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. др Биљана Поповска-Јович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D:\Users\Predrag Canovic\Desktop\intrahospitalne infekcije\2.jpg"/>
          <p:cNvPicPr/>
          <p:nvPr/>
        </p:nvPicPr>
        <p:blipFill>
          <a:blip r:embed="rId2"/>
          <a:stretch/>
        </p:blipFill>
        <p:spPr>
          <a:xfrm>
            <a:off x="347760" y="260280"/>
            <a:ext cx="299556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вируси као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с ваздух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Influenza, VZV,  Morbilli, Parainfluenza, Respiratorni sincijalni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Фекооралн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пре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otavirus, Norovi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Директни конта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HSV1, HSV2,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Вируси који се преносе путем крви и крвних дери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HBV, HCV, H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B93-4F04-44F1-933A-4C79867320D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Гљивице као 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1699920"/>
            <a:ext cx="51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Квасниц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dida spp. (C. albicans, C. glabrata, C.krusei, C.tropicali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лес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spergillus spp, Acremonium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uc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hizopus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67B-44A4-4F53-B43B-5392DE10DC7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Content Placeholder 5" descr=""/>
          <p:cNvPicPr/>
          <p:nvPr/>
        </p:nvPicPr>
        <p:blipFill>
          <a:blip r:embed="rId1"/>
          <a:stretch/>
        </p:blipFill>
        <p:spPr>
          <a:xfrm>
            <a:off x="5224320" y="2698920"/>
            <a:ext cx="3657600" cy="232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9720" y="933480"/>
            <a:ext cx="607212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честалост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азличит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7840" y="1891800"/>
            <a:ext cx="7796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мокраћ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услед манипулација у мокраћном тра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д 20-25% болесника са уринарним кате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респоратор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а пнеумонија је друга по учесталости болничк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 хоспитализацију болесника за 4-9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 се креће између 20-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F93-8A92-42D9-969B-64CA86A00517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23400" y="1892160"/>
            <a:ext cx="7937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хируршк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12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зв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з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крв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рв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)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чин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ћи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овеза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им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и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FE5-3F12-440E-ABCE-9198D7308163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038240" y="1000440"/>
            <a:ext cx="62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значајнији облици резистенције (мултирезистентни микроорганиз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961920" y="2084400"/>
            <a:ext cx="77202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ч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слов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ест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етицил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Staphylococcus aureus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Enterococcus (VR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улти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апић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BL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е проширеног спектра деловањ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љив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E7D-CDB9-4CB2-B2F8-C76182BD790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7" descr="D:\Users\Predrag Canovic\Desktop\intrahospitalne infekcije\4.jpg"/>
          <p:cNvPicPr/>
          <p:nvPr/>
        </p:nvPicPr>
        <p:blipFill>
          <a:blip r:embed="rId1"/>
          <a:stretch/>
        </p:blipFill>
        <p:spPr>
          <a:xfrm>
            <a:off x="6222960" y="4427640"/>
            <a:ext cx="26877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033560" y="804600"/>
            <a:ext cx="75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поступци у смањивању појаве и контроли мултирезистентних микр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961920" y="2084400"/>
            <a:ext cx="801540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ктивно праћење инфекција и препознавање типова резистенција на антибио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обра микробиолошка лабораторијска пр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елотворна контрола употребе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Развијање и примена адекватних мера за контролу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декватно чишћење и деконтаминација болничке сред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Едукација и практична обука здравственог особ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9C7A-03EC-4535-9589-BE34DD4B0FE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000080" y="10411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Метицилин резистентни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МRS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955800" y="2162160"/>
            <a:ext cx="7918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зазива инфекције коже и меких ткива, као и системск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30% здравих особа има  у н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МRSА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је главни болнички патоген у свету (ЈИН, инфекције васкуларних/ортопедских имплантата, инфекције хируршких рана, сепсе, пнеумон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9A83-9C59-49E4-AE6B-361BB1B7E19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923760" y="1969920"/>
            <a:ext cx="80154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звор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лонизациј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ут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лав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ношењ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к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дравстве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д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адеква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а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ндемич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0B4C-3297-44D8-9444-F5CB19B011CC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154160" y="824040"/>
            <a:ext cx="62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анкомицин-резистентним Enterococcus (VR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77840" y="2200320"/>
            <a:ext cx="78343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шестру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рај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магал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нтрал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енск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ренов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Живо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гроже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нколош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ељењ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ј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а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тра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орак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ртопедс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олош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ш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снов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FC1-CE45-45F7-B0EC-E741830D50B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038240" y="1382760"/>
            <a:ext cx="783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Enterococcus faecium и Enterococcus fecali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у сапрофити у интестиналном тракту (због употребе широкоспектралних антибиотика могу постати патоге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Начин прено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јчешће са болесника на болесника преко руку здравственог особља или преко контаминиране опреме за негу болес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FB9-2456-4288-8F63-5099CE8F6EF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91960" y="893880"/>
            <a:ext cx="568476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Дефиниција</a:t>
            </a:r>
            <a:r>
              <a:rPr b="0" i="1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болничких инфекција (БИ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85960" y="2063880"/>
            <a:ext cx="7603920" cy="386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4000"/>
          </a:bodyPr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линичк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споље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бољ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ављај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равк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а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собљ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рад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48</a:t>
            </a:r>
            <a:r>
              <a:rPr b="0" lang="en-US" sz="2000" spc="-1" strike="noStrike" baseline="30000">
                <a:solidFill>
                  <a:srgbClr val="002060"/>
                </a:solidFill>
                <a:latin typeface="Cambria"/>
                <a:ea typeface="Arial"/>
              </a:rPr>
              <a:t> h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кон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 и унутар 3 дана након отпу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фекци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л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сут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т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т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кубациј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ликом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ема пореклу могу бити ендогене и егзоге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D7E-B293-434D-9539-CF74D53E78F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6877080" y="5234040"/>
            <a:ext cx="17002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1038240" y="1012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ишеструко резистентне грам-негативне бактер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1023840" y="1969920"/>
            <a:ext cx="783432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ног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актер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Klebsiela, Esherichia colli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уч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ет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и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Хит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ој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вчиц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астростом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јуност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уж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равак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арочи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2E5-400B-48BB-9663-B03F055436B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1038240" y="100980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Инфекција коју узрокује Clostridium diffic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042920" y="2008080"/>
            <a:ext cx="7869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a  </a:t>
            </a:r>
            <a:r>
              <a:rPr b="0" i="1" lang="en-US" sz="1800" spc="-1" strike="noStrike">
                <a:solidFill>
                  <a:srgbClr val="ffff00"/>
                </a:solidFill>
                <a:latin typeface="Cambria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је данас најчешћи узрочник пролива стечених у 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Клиничке карактерис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олив се обично јавља 5-10 дана (распон: неколико дана до 2 месеца) након почетка антибиотске терап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јтежи облик болести се назива псеудомембранозни ко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омпликације: панколитис, токсични мегаколон, перфорација и ендотоксични 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Болест је склона релапсима (код 15-25%, унутар 2-4 недељ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B35-531A-46DF-9843-303E0676243B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000080" y="1085760"/>
            <a:ext cx="78343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Фактори 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екритична употреба антибиотика широког спектра, посебно беталактамских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Гастроинтестинални и хируршки зах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тарија животна доб (старији и исцрпљени болесниц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звор инфекције су болесници са клостридијалним колитисом који излучује патогене столиц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е најчешће шири међу болесницима контактом (директним или индиректни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DB1-0147-4112-B38B-1D72C6D28DF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1000080" y="1278000"/>
            <a:ext cx="779616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етекција токсина на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у стол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Леч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кид антибиотске терапија која је довела до измене микрофлоре црева или променити у терапију антибиотицима који су мање повезани са колити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отребно избегавати антиперисталтичке лекове (Loperam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докнада течности и електрол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нтибиотици: Метронидазол тбл. 400 mg 3x1 10-14 дана (лек првог избора) или Vankomicin орално 4x125 mg 10-14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394-5301-4096-8B6D-E82431E399C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rcRect l="3975" t="20027" r="39490" b="7135"/>
          <a:stretch/>
        </p:blipFill>
        <p:spPr>
          <a:xfrm>
            <a:off x="385920" y="1674720"/>
            <a:ext cx="4881240" cy="47149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1172880" y="8938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Кључне стратешке мере превен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2"/>
          <p:cNvSpPr/>
          <p:nvPr/>
        </p:nvSpPr>
        <p:spPr>
          <a:xfrm>
            <a:off x="5438880" y="1803240"/>
            <a:ext cx="37051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венција инфекције (вакцинација, изолација, не радити док ерозија не зарасте, рукавице, наочаре, маск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Рана дијагноза и терапија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надзор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елективна употреба антибио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венција пренос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E16-511E-4F13-86B1-4864D5258ECB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5640" y="855720"/>
            <a:ext cx="46465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раћење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85960" y="1891800"/>
            <a:ext cx="79660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ambria"/>
                <a:ea typeface="Arial"/>
              </a:rPr>
              <a:t>Свака здрваствена организација је у обавези да прати болничке инфекциј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лавни циљеви праћења болничких инфекција су следећ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ањење учесталости инфекција у болничким услов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тврђивање сопствених стопа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ткривање епиде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поређивање стопа учесталости болничких инфекција између здравствених уст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валуирање мера за контролу инфекциј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447-3FBF-4687-B394-8BC41AC423E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19680" y="1201680"/>
            <a:ext cx="4008240" cy="80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B6E-A307-4E8D-BF71-394E2E08A98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D:\Users\Predrag Canovic\Desktop\intrahospitalne infekcije\8.jpg"/>
          <p:cNvPicPr/>
          <p:nvPr/>
        </p:nvPicPr>
        <p:blipFill>
          <a:blip r:embed="rId1"/>
          <a:stretch/>
        </p:blipFill>
        <p:spPr>
          <a:xfrm>
            <a:off x="270000" y="1892160"/>
            <a:ext cx="2965320" cy="1973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D:\Users\Predrag Canovic\Desktop\intrahospitalne infekcije\9.jpe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915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1038240" y="100980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ХВАЛА НА ПАЖЊИ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33280" y="933480"/>
            <a:ext cx="43052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начај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77480" y="2084400"/>
            <a:ext cx="67978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5-1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ку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100 000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т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лучајев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одиш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иш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7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чни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ултирезистен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5EA9-29A2-48FB-AD5D-0A1B2A1D91F0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933480" y="4089240"/>
            <a:ext cx="2424240" cy="181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5438880" y="4159080"/>
            <a:ext cx="221292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3800" y="893880"/>
            <a:ext cx="499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оследице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22120" y="2199960"/>
            <a:ext cx="71802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бидите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е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г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це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19"/>
          <p:cNvGraphicFramePr/>
          <p:nvPr/>
        </p:nvGraphicFramePr>
        <p:xfrm>
          <a:off x="5608800" y="4311720"/>
          <a:ext cx="18208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4311720"/>
                    <a:ext cx="18208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8CF2-FE03-46B9-8E66-8AEEB910947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93680" y="933480"/>
            <a:ext cx="51292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ацијенти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изик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настанак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37880" y="2008080"/>
            <a:ext cx="612756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оворођенча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ц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с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уг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мунокомпромит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ронични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Р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F36B-9CBF-4779-B1C0-01B51F4C1C56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85920" y="5388120"/>
            <a:ext cx="1128600" cy="1253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4672080" y="5403960"/>
            <a:ext cx="1111320" cy="122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3179880" y="5416560"/>
            <a:ext cx="1209600" cy="1198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1797120" y="5373720"/>
            <a:ext cx="1098360" cy="1282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066000" y="5388120"/>
            <a:ext cx="1257120" cy="1255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"/>
          <p:cNvPicPr/>
          <p:nvPr/>
        </p:nvPicPr>
        <p:blipFill>
          <a:blip r:embed="rId6"/>
          <a:stretch/>
        </p:blipFill>
        <p:spPr>
          <a:xfrm>
            <a:off x="7605720" y="5388120"/>
            <a:ext cx="1095480" cy="12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31840" y="701280"/>
            <a:ext cx="24782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23480" y="1969920"/>
            <a:ext cx="638172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р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рина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еханич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ентил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зогастрич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он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Трансфуз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рентералн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с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F71-1DBC-433D-9B33-00698B0F1AD3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585720" y="5173560"/>
            <a:ext cx="1144800" cy="1457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3535200" y="5338800"/>
            <a:ext cx="1209960" cy="1293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2031840" y="5241960"/>
            <a:ext cx="1233720" cy="1388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4"/>
          <a:stretch/>
        </p:blipFill>
        <p:spPr>
          <a:xfrm>
            <a:off x="5016600" y="5338800"/>
            <a:ext cx="1260360" cy="1336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5"/>
          <a:stretch/>
        </p:blipFill>
        <p:spPr>
          <a:xfrm>
            <a:off x="6461280" y="5286240"/>
            <a:ext cx="1096920" cy="1322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6"/>
          <a:stretch/>
        </p:blipFill>
        <p:spPr>
          <a:xfrm>
            <a:off x="7740720" y="5276880"/>
            <a:ext cx="11840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5640" y="933480"/>
            <a:ext cx="3148200" cy="51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утев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37880" y="2122560"/>
            <a:ext cx="752796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м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ц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с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а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ож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е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онта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ире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директ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пљич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аздух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уте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ктор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иј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војствен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ј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реди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D99-230A-4A70-81E5-13D99559BAC4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imp2"/>
          <p:cNvPicPr/>
          <p:nvPr/>
        </p:nvPicPr>
        <p:blipFill>
          <a:blip r:embed="rId1"/>
          <a:stretch/>
        </p:blipFill>
        <p:spPr>
          <a:xfrm rot="21022200">
            <a:off x="6515280" y="417600"/>
            <a:ext cx="2419200" cy="1555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D:\Users\Predrag Canovic\Desktop\intrahospitalne infekcije\6.jpg"/>
          <p:cNvPicPr/>
          <p:nvPr/>
        </p:nvPicPr>
        <p:blipFill>
          <a:blip r:embed="rId2"/>
          <a:stretch/>
        </p:blipFill>
        <p:spPr>
          <a:xfrm>
            <a:off x="193680" y="492588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488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mbria"/>
              </a:rPr>
              <a:t>Бактер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Гљив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Протоз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Прио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4AB-1668-4731-B595-9C1D0D73663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48240" y="4767120"/>
            <a:ext cx="4529160" cy="2876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 rot="20511600">
            <a:off x="4701960" y="1728360"/>
            <a:ext cx="242388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1" name="Picture 2" descr=""/>
          <p:cNvPicPr/>
          <p:nvPr/>
        </p:nvPicPr>
        <p:blipFill>
          <a:blip r:embed="rId3"/>
          <a:stretch/>
        </p:blipFill>
        <p:spPr>
          <a:xfrm rot="20799000">
            <a:off x="696600" y="4551120"/>
            <a:ext cx="2108160" cy="210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бактеријски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638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Грам пози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taphylococcus aur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nterococcus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oagulaza  negativan Staphylococ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Грам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нега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scherichia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Pseudomonas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lebsiel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rrati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cinetobacter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4D0B-48A2-41CC-8F41-5AB0192E493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46:03Z</dcterms:created>
  <dc:creator>Dragan Adamovic</dc:creator>
  <dc:description/>
  <dc:language>en-US</dc:language>
  <cp:lastModifiedBy>Predrag Canovic</cp:lastModifiedBy>
  <dcterms:modified xsi:type="dcterms:W3CDTF">2024-01-31T18:31:11Z</dcterms:modified>
  <cp:revision>238</cp:revision>
  <dc:subject/>
  <dc:title>Slide 1</dc:title>
</cp:coreProperties>
</file>