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55B-04EE-4229-ADE8-DAA457927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68C0-A0F8-49DE-B50C-A94CFE671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CA61-AB7D-4D78-BFFF-5B58ECC3F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BF6-1BDE-4CCE-9C79-1E183432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9A8-741C-45E2-A138-6DDD6028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33D-5DD1-42C6-AD82-E7980620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3A7-55AD-4FA3-A9F9-A96D5BB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489D-16BA-4AA3-A4B3-3E3C0B9C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D00-88E4-424F-BC07-D6430A6C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AF22-0E14-437C-8971-FFF4AD94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4DD-30C2-49D5-94A4-EF82FDA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4D9A-A7F7-4917-B068-848BE0B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05FF-C8B3-4799-8EB5-F021D083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1A36-AB8B-4C5D-B0D9-D1692A0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AF5-209F-47D8-B806-609B2D9C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CE93-F6B9-4D45-86AC-7FD1321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57F0-236D-4F2E-BD25-415E791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0FB6-00A8-4470-A42F-5B1CBBB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AE01-2A0C-4C62-8C8B-05FD38F2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A408-37D3-4DBB-9E0D-DEC49A93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D3B6-B2A8-4929-B131-36899F93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FD5F-2287-4421-8C5D-F4A617FD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471D-B27A-472E-986C-AC1B6D3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6C3D-939F-4290-85E2-D51E617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3C0F-CCDE-420C-9FED-BE412A1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499-4734-470D-BA82-A65BEEA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DDA4-B362-4685-B16C-6F76E7B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7081-8F44-42CA-ACD5-864C23F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7857-11DF-4F1F-A94A-90AB237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ED3F-5363-456D-AE3C-148ABD3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26ED-5A7B-4EC8-A4B9-D70D2C31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D8EE-47E2-4A3A-B0E9-3AC967B6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A4DC-ECFB-4641-8AD6-726FC659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B5417-8C5B-4C45-BB75-CBD7FE7D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BF3C-8555-4440-8AE8-F58B10D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56FA-4548-4A0E-A66F-0D46E07E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DBF-693C-4FD8-929D-888F64E4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769A-1593-4B5C-8EA6-E14BD521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2472-9DD1-4C8C-A22E-2F1F8628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13A4-3BB7-477C-A65B-30BB9E96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2DCD3-3CFA-459C-947F-723F6E3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04203-BA00-473E-AA2E-D28E38E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347F-B7F1-4809-B7AB-E0FB027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3017-41E1-4F13-8A52-F4DB15CC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2757-25A0-4270-B491-0043C874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B06B-A1E5-499A-AA5C-98F348E9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82EC-7D14-4FC5-A123-A8EAA7CF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CF4-1F0B-4E3D-9FE6-114B8D55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FE4A-1CF2-47A1-A136-C22972F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EC7C-CA61-46C2-909C-D826C48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2CFE-9A35-4C72-B6C2-5E458E61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58FC-992B-455B-A776-0D90942B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55E5-8580-47A1-B9A8-45AD4D9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E494D-1F8A-4EEC-B919-1889E9E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1E56-CF65-4002-B1C9-045CC6F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154E-9783-4582-A3BF-D7BCFC9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0FD3-8129-40C1-9E3F-11B5540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8621-4158-4B1F-9673-DD2D5994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6CA-0CC5-4707-9F92-16BCD504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12FD-861E-48A0-BA38-345B98F9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39DA-765A-487F-883F-9E8FE1DC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F737-C84E-483C-B9BD-FBB3D60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908D7-9AC9-49BB-8D82-6BF8C832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D6CA-CC39-45DE-9AEB-3499274E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BC76-84EF-4FDE-AB36-1F61F5F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83DE-9887-493A-9C6A-0D15035A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7E87-AADF-4A0B-8B07-95B1301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5B0B2-038C-4E43-B5CA-7B034AD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9793-6DC2-4BA2-8B98-FDCBC46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412-6A1D-464F-A119-9953750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76C2-4F03-4F99-9E5C-7B3B5A46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8328A-D301-475A-BAA9-0CDED949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6594-822E-40F9-BCF6-FF82AEEA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74C-B02C-4BED-8686-2B725E0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5CB-0FCD-405E-A6E9-D4B11CB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510D-5BE8-4F81-8726-CE6A637BF5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8A56-F898-4ED1-A5DC-A45DF4D3B9A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76A0-F4FC-4BAF-B3D0-1F1B0F36B4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9D5-B873-4159-A91E-A492EA983BA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35A-466E-4622-8694-4E5D410B979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90D4-433E-48F0-8408-D4906C6C34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~Инфективне болести~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Инфекције у трудноћ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Placeholder 4" descr="glavna beba.jpg"/>
          <p:cNvPicPr/>
          <p:nvPr/>
        </p:nvPicPr>
        <p:blipFill>
          <a:blip r:embed="rId1"/>
          <a:stretch/>
        </p:blipFill>
        <p:spPr>
          <a:xfrm>
            <a:off x="4602240" y="1322280"/>
            <a:ext cx="4200480" cy="54500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1120" y="571500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роф. др Биљана Поповска Јовичи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стика интраутериних инфекција (пренатална и постнатална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Cambria"/>
              </a:rPr>
              <a:t>Лабораторијска дијагнос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041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6ea0b0"/>
                </a:solidFill>
                <a:latin typeface="Cambria"/>
              </a:rPr>
              <a:t>Методе које се користе у пренаталној дијагностиц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304776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на култури 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Бактериолошке анализе (култур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е методе (ЕLISA, доказивање A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(PC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44720" y="3200040"/>
            <a:ext cx="404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Амниоцe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рдоцe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Биопсија хорионских чуп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Методе које се користе у пренаталној дијагностиц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556272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mbria"/>
              </a:rPr>
              <a:t>Амниоцe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5562720"/>
            <a:ext cx="404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mbria"/>
              </a:rPr>
              <a:t>Кордоцe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Content Placeholder 8" descr="amniocinteza.jpg"/>
          <p:cNvPicPr/>
          <p:nvPr/>
        </p:nvPicPr>
        <p:blipFill>
          <a:blip r:embed="rId1"/>
          <a:stretch/>
        </p:blipFill>
        <p:spPr>
          <a:xfrm>
            <a:off x="609480" y="1727280"/>
            <a:ext cx="3888000" cy="366696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9" descr="kordocinteza.jpg"/>
          <p:cNvPicPr/>
          <p:nvPr/>
        </p:nvPicPr>
        <p:blipFill>
          <a:blip r:embed="rId2"/>
          <a:stretch/>
        </p:blipFill>
        <p:spPr>
          <a:xfrm>
            <a:off x="4641840" y="1752480"/>
            <a:ext cx="4265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Вирусне инфекције у трудноћ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28600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ubella virus припада Toga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Хематогено-трансплаце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еронегативне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симптоматска или блага болест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Content Placeholder 7" descr=""/>
          <p:cNvPicPr/>
          <p:nvPr/>
        </p:nvPicPr>
        <p:blipFill>
          <a:blip r:embed="rId1"/>
          <a:stretch/>
        </p:blipFill>
        <p:spPr>
          <a:xfrm>
            <a:off x="4645080" y="1517760"/>
            <a:ext cx="4498920" cy="45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Знакови конгениталне рубел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Content Placeholder 3" descr=""/>
          <p:cNvPicPr/>
          <p:nvPr/>
        </p:nvPicPr>
        <p:blipFill>
          <a:blip r:embed="rId1"/>
          <a:stretch/>
        </p:blipFill>
        <p:spPr>
          <a:xfrm>
            <a:off x="-176040" y="1365120"/>
            <a:ext cx="880740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и Рубела синдром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rubelasindrom.jpg"/>
          <p:cNvPicPr/>
          <p:nvPr/>
        </p:nvPicPr>
        <p:blipFill>
          <a:blip r:embed="rId1"/>
          <a:stretch/>
        </p:blipFill>
        <p:spPr>
          <a:xfrm>
            <a:off x="1092240" y="1447920"/>
            <a:ext cx="668016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Дијагностикa и лечење Рубел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9047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вируса –амнионска течност, назофаринкс, урин, цереброспинална течн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а дијагностика- ЕLISA, доказивање IgM антитела, или четворуструки пораст  IgG антит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P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тоде-кордоцeнтеза, биопсија хорионских чуп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Лечење је симптоматс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енција- жива атенуисана вакцина ММ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DNK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рус, припада пород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а мајке може би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марна инфекција (30-50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инфекција (1-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еви ширења инфекциј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Т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нсплацетал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Т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ком порођа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ј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Екскреција вируса код заражене новорођенчади може трајати месецима, па и годинама, а вирус се може изоловати из урина, крви, суз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38320" y="50292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ea0b0"/>
                </a:solidFill>
                <a:latin typeface="Arial"/>
              </a:rPr>
              <a:t>CMV placent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517400"/>
            <a:ext cx="41907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MV инфек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имптоматска 10%    Асимптоматска 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7%                              5-15%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Трајне секвеле               Оштећење слух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Content Placeholder 19" descr="300px-CMV_placentitis1_mini.jpg"/>
          <p:cNvPicPr/>
          <p:nvPr/>
        </p:nvPicPr>
        <p:blipFill>
          <a:blip r:embed="rId1"/>
          <a:stretch/>
        </p:blipFill>
        <p:spPr>
          <a:xfrm>
            <a:off x="4724280" y="2116080"/>
            <a:ext cx="3846600" cy="2718000"/>
          </a:xfrm>
          <a:prstGeom prst="rect">
            <a:avLst/>
          </a:prstGeom>
          <a:ln w="0">
            <a:noFill/>
          </a:ln>
        </p:spPr>
      </p:pic>
      <p:cxnSp>
        <p:nvCxnSpPr>
          <p:cNvPr id="308" name="Straight Arrow Connector 7"/>
          <p:cNvCxnSpPr/>
          <p:nvPr/>
        </p:nvCxnSpPr>
        <p:spPr>
          <a:xfrm flipH="1">
            <a:off x="1066320" y="2362320"/>
            <a:ext cx="1067760" cy="9151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9" name="Straight Arrow Connector 10"/>
          <p:cNvCxnSpPr/>
          <p:nvPr/>
        </p:nvCxnSpPr>
        <p:spPr>
          <a:xfrm>
            <a:off x="2209680" y="2362320"/>
            <a:ext cx="915120" cy="9151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10" name="Straight Arrow Connector 12"/>
          <p:cNvCxnSpPr/>
          <p:nvPr/>
        </p:nvCxnSpPr>
        <p:spPr>
          <a:xfrm flipH="1">
            <a:off x="1216800" y="3506760"/>
            <a:ext cx="3960" cy="8388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11" name="Straight Arrow Connector 14"/>
          <p:cNvCxnSpPr/>
          <p:nvPr/>
        </p:nvCxnSpPr>
        <p:spPr>
          <a:xfrm flipH="1">
            <a:off x="3198600" y="3506400"/>
            <a:ext cx="3600" cy="762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" name="Content Placeholder 3" descr=""/>
          <p:cNvPicPr/>
          <p:nvPr/>
        </p:nvPicPr>
        <p:blipFill>
          <a:blip r:embed="rId1"/>
          <a:stretch/>
        </p:blipFill>
        <p:spPr>
          <a:xfrm>
            <a:off x="219240" y="1596960"/>
            <a:ext cx="8626320" cy="4535640"/>
          </a:xfrm>
          <a:prstGeom prst="rect">
            <a:avLst/>
          </a:prstGeom>
          <a:ln w="0">
            <a:noFill/>
          </a:ln>
        </p:spPr>
      </p:pic>
      <p:sp>
        <p:nvSpPr>
          <p:cNvPr id="314" name="Title 15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стика CMV инфекциј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Лабораторијска дијагност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Изолација вируса (амнионска течност, крв, ликвор, ури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Реакција ланчане полимеризације (PC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Серолошке анализе (ЕLISA, IgM антитела, или четворостуки пораст Ig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Патохистолошки налаз- инклузиона телаш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Методе у пренаталној дијагност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Tahoma"/>
              </a:rPr>
              <a:t>Инфекција у трудноћи, без обзира на етиолошки узрочник, може представљати опасност за ток трудноће и п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Инфекција плода може наста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У току трудноће (пренатална, интраутерина или конгени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За време порођаја (перина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После порођаја (постна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Content Placeholder 4" descr="beba 2.jpg"/>
          <p:cNvPicPr/>
          <p:nvPr/>
        </p:nvPicPr>
        <p:blipFill>
          <a:blip r:embed="rId1"/>
          <a:stretch/>
        </p:blipFill>
        <p:spPr>
          <a:xfrm>
            <a:off x="6095880" y="25909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Лечење и превен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ерапија-симптомат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д новорођенчади са постојањем симптоматске инфекције на рођењу антивирусна терапија (Ganciklovir) може имати повољан ефекат на даљи ис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енција код трудница- лична хигијена, прање руку водом и сапуном, избегавање дељења хране, пића са малом децом (контакт са салив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Content Placeholder 4" descr="beba 1.jpg"/>
          <p:cNvPicPr/>
          <p:nvPr/>
        </p:nvPicPr>
        <p:blipFill>
          <a:blip r:embed="rId1"/>
          <a:stretch/>
        </p:blipFill>
        <p:spPr>
          <a:xfrm>
            <a:off x="6400800" y="236232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Инфекција херпес вирусим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SV-1, HSV-2 припадају породици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SV-2 далеко чешћи изазивач инфекције (9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фекција настаје проласком кроз инфицирани порођајни канал мај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Неонатална херпес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Content Placeholder 7" descr="hsv elektonsk.jpg"/>
          <p:cNvPicPr/>
          <p:nvPr/>
        </p:nvPicPr>
        <p:blipFill>
          <a:blip r:embed="rId1"/>
          <a:stretch/>
        </p:blipFill>
        <p:spPr>
          <a:xfrm>
            <a:off x="6400800" y="1600200"/>
            <a:ext cx="1905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Неонатална херпес инфек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a0b0"/>
                </a:solidFill>
                <a:latin typeface="Cambria"/>
              </a:rPr>
              <a:t>Смртност код нелечене дисеминоване инфекције износи 85%, а трајне секвеле 5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Content Placeholder 5" descr=""/>
          <p:cNvPicPr/>
          <p:nvPr/>
        </p:nvPicPr>
        <p:blipFill>
          <a:blip r:embed="rId1"/>
          <a:stretch/>
        </p:blipFill>
        <p:spPr>
          <a:xfrm>
            <a:off x="0" y="1517760"/>
            <a:ext cx="4191120" cy="3941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114800" y="1517400"/>
            <a:ext cx="50292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еонатална HSV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Локализована                  Дисеминов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Cambria"/>
              </a:rPr>
              <a:t>О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чи                                                  Иктер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Усна дупља                                  Хепатоспленомегал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Кожа                                               Хеморагична дијатез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Енцефалит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Straight Arrow Connector 10"/>
          <p:cNvCxnSpPr/>
          <p:nvPr/>
        </p:nvCxnSpPr>
        <p:spPr>
          <a:xfrm flipH="1">
            <a:off x="4800240" y="1981080"/>
            <a:ext cx="1296000" cy="6105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8" name="Straight Arrow Connector 12"/>
          <p:cNvCxnSpPr/>
          <p:nvPr/>
        </p:nvCxnSpPr>
        <p:spPr>
          <a:xfrm>
            <a:off x="6171840" y="1981080"/>
            <a:ext cx="1067400" cy="6105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а херпес инфек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азивачи HSV-1 и HSV-2, доминантно код примо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Веома ретка за разлику од неонаталн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нсплаце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огући исход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З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астој у рас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ремени порођ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обач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орођај мртворођен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нгениталне малформ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266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онгениталне малформ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кранијалне калцифик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икроцеф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икроофтал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нтална ретард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Дисплазија рет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Везикулозне промене на кожи код  дисеминоване </a:t>
            </a:r>
            <a:r>
              <a:rPr b="1" lang="sr-Latn-RS" sz="2000" spc="-1" strike="noStrike">
                <a:solidFill>
                  <a:srgbClr val="6ea0b0"/>
                </a:solidFill>
                <a:latin typeface="Arial"/>
              </a:rPr>
              <a:t>HSV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4720" y="5486400"/>
            <a:ext cx="4498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Јетра код дисеминоване </a:t>
            </a:r>
            <a:r>
              <a:rPr b="1" lang="sr-Latn-RS" sz="2000" spc="-1" strike="noStrike">
                <a:solidFill>
                  <a:srgbClr val="6ea0b0"/>
                </a:solidFill>
                <a:latin typeface="Arial"/>
              </a:rPr>
              <a:t>HSV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6ea0b0"/>
                </a:solidFill>
                <a:latin typeface="Cambria"/>
              </a:rPr>
              <a:t>инфекције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и хистолошки  на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Content Placeholder 8" descr="ninr472408.fig1.jpg"/>
          <p:cNvPicPr/>
          <p:nvPr/>
        </p:nvPicPr>
        <p:blipFill>
          <a:blip r:embed="rId1"/>
          <a:stretch/>
        </p:blipFill>
        <p:spPr>
          <a:xfrm>
            <a:off x="420840" y="1523880"/>
            <a:ext cx="4197240" cy="338004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9" descr="jetra hsv.jpg"/>
          <p:cNvPicPr/>
          <p:nvPr/>
        </p:nvPicPr>
        <p:blipFill>
          <a:blip r:embed="rId2"/>
          <a:stretch/>
        </p:blipFill>
        <p:spPr>
          <a:xfrm>
            <a:off x="5011560" y="765000"/>
            <a:ext cx="344664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5791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NMR  код  здраве новорођенчеди (лево) и код новорођенчеди са HSV енцефалитисом  (десно) у склопу  дисеминован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Content Placeholder 3" descr="hsv encefalitis.jpg"/>
          <p:cNvPicPr/>
          <p:nvPr/>
        </p:nvPicPr>
        <p:blipFill>
          <a:blip r:embed="rId1"/>
          <a:stretch/>
        </p:blipFill>
        <p:spPr>
          <a:xfrm>
            <a:off x="822240" y="1219320"/>
            <a:ext cx="695016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Физикални на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золација вируса (брис ждрела, аспират трахеје, брис ока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акција ланчане полимеризације (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PCR)-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иквор,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рв, мукокутане лезије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иректна имунофлоресцен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еролошке анализе (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LI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Методе у пренаталној дијагност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Лечење херпес инфекциј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600" y="1447560"/>
            <a:ext cx="7696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ечење дисеминоване HSV инфекције Aciklovirom, 20mg/kg, на 8 сати, интравенским путем, најмање 14-21 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ечити Аciklovirom симптоматску  HSV инфекцију код труд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арски рез код примарне или рекурентне инфекције са свежим везикулозним лез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Varicella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9320"/>
            <a:ext cx="5867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азивач 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aricella -  Zoster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рус припада фамилиј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асплацетарни-хематоге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онегативне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 првих 16. недеља трудноће тешке секвел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поплазија или аплазија уд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Микроцеф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Хидроцефал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Ментална ретард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трофија  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n.opti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Content Placeholder 6" descr="varicella-zoster-virus-infections-40-638.jpg"/>
          <p:cNvPicPr/>
          <p:nvPr/>
        </p:nvPicPr>
        <p:blipFill>
          <a:blip r:embed="rId1"/>
          <a:stretch/>
        </p:blipFill>
        <p:spPr>
          <a:xfrm>
            <a:off x="5537160" y="2666880"/>
            <a:ext cx="33526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520" y="121932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осебан проблем представља неонатална VZV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стаје ако мајка оболи 5 дана пре или 2 дана након порођа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исеминована инфекција, захвата кожу, очи, плућа, јетру и C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ијагноза- пренатална дијагностика, изолација вируса, PCR, антитела на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ciklovir 10-15 mg/kg i.v 8 сати 10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Content Placeholder 8" descr="cihen pox.png"/>
          <p:cNvPicPr/>
          <p:nvPr/>
        </p:nvPicPr>
        <p:blipFill>
          <a:blip r:embed="rId1"/>
          <a:stretch/>
        </p:blipFill>
        <p:spPr>
          <a:xfrm>
            <a:off x="6019920" y="2743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утеви ширења инфекциј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Content Placeholder 4" descr=""/>
          <p:cNvPicPr/>
          <p:nvPr/>
        </p:nvPicPr>
        <p:blipFill>
          <a:blip r:embed="rId1"/>
          <a:stretch/>
        </p:blipFill>
        <p:spPr>
          <a:xfrm>
            <a:off x="444600" y="1968480"/>
            <a:ext cx="711972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аразитарне 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ОXOPLA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Узрочник- Протозоа,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Toxoplasma gon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Феко-оралн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негативне труднице, инфекција настаје током примо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мајке уобичајено блага бол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нсплаца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Хематогено ширење тахизо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Content Placeholder 4" descr="toxo yivot.jpg"/>
          <p:cNvPicPr/>
          <p:nvPr/>
        </p:nvPicPr>
        <p:blipFill>
          <a:blip r:embed="rId1"/>
          <a:stretch/>
        </p:blipFill>
        <p:spPr>
          <a:xfrm>
            <a:off x="5791320" y="2590920"/>
            <a:ext cx="307656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Животни циклус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Тoxoplasme gondii и морфолошки облиц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1" name="Content Placeholder 3" descr="toxoplasmosis life cycle includes cat and pregnant woman.jpg"/>
          <p:cNvPicPr/>
          <p:nvPr/>
        </p:nvPicPr>
        <p:blipFill>
          <a:blip r:embed="rId1"/>
          <a:stretch/>
        </p:blipFill>
        <p:spPr>
          <a:xfrm>
            <a:off x="139680" y="20574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52" name="Content Placeholder 5" descr="morfologija toxo.jpg"/>
          <p:cNvPicPr/>
          <p:nvPr/>
        </p:nvPicPr>
        <p:blipFill>
          <a:blip r:embed="rId2"/>
          <a:stretch/>
        </p:blipFill>
        <p:spPr>
          <a:xfrm>
            <a:off x="4343400" y="2057400"/>
            <a:ext cx="4567320" cy="3429000"/>
          </a:xfrm>
          <a:prstGeom prst="rect">
            <a:avLst/>
          </a:prstGeom>
          <a:ln w="0">
            <a:noFill/>
          </a:ln>
        </p:spPr>
      </p:pic>
      <p:sp>
        <p:nvSpPr>
          <p:cNvPr id="353" name="Text Placeholder 4"/>
          <p:cNvSpPr/>
          <p:nvPr/>
        </p:nvSpPr>
        <p:spPr>
          <a:xfrm>
            <a:off x="0" y="586728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mbria"/>
              </a:rPr>
              <a:t>Живорни циклус Toxoplasme gond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Placeholder 4"/>
          <p:cNvSpPr/>
          <p:nvPr/>
        </p:nvSpPr>
        <p:spPr>
          <a:xfrm>
            <a:off x="4343400" y="594360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Морфолошки облици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Toxoplasme gon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Клиничке манифестације Токсоплазмозе у трудноћ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749916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(PCR D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е анализе: ЕLISA (IgM, или четвороструки пораст I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паразита путем биолошког огледа инокулацијом амнионске течности у миш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тоде пренаталне дијагностике (амниоцeнтеза, кордоцeнтез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Content Placeholder 8" descr="toxoplasma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1640" cy="2024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D:\intrauterine predavanje Bilja\toxoplasma-gondii-ELEKTRONIC.jpg"/>
          <p:cNvPicPr/>
          <p:nvPr/>
        </p:nvPicPr>
        <p:blipFill>
          <a:blip r:embed="rId2"/>
          <a:stretch/>
        </p:blipFill>
        <p:spPr>
          <a:xfrm>
            <a:off x="5334120" y="4105440"/>
            <a:ext cx="36576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Терап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нгенитална токсоплазмоза- комбинована терапија: Pirimetamin 0,5-1mg/kg и Sulfadiazin (100mg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Додатак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фолне кисел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Лечење је интермитентно и траје годину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ртикостероидна терапија: код прогресивног енцефалитиса и хориоретинит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д субклиничких форми и акутне инфекције трудница- Spiramicin у трајању од 30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Превен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752120"/>
            <a:ext cx="5181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Спровођење мера личне хигије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Избегавати контакт са мачкама, посебно њиховим излучевинама током трудноћ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Обавезно прање руку након рада у баш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Темељно прање воћа и поврћ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Добра термичка обрада ме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Не конзумирати воду чији квалитет није провер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Content Placeholder 5" descr="toxo ilustracija.jpg"/>
          <p:cNvPicPr/>
          <p:nvPr/>
        </p:nvPicPr>
        <p:blipFill>
          <a:blip r:embed="rId1"/>
          <a:stretch/>
        </p:blipFill>
        <p:spPr>
          <a:xfrm>
            <a:off x="5867280" y="533520"/>
            <a:ext cx="2568600" cy="1923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D:\intrauterine predavanje Bilja\prevencija toxo.jpg"/>
          <p:cNvPicPr/>
          <p:nvPr/>
        </p:nvPicPr>
        <p:blipFill>
          <a:blip r:embed="rId2"/>
          <a:stretch/>
        </p:blipFill>
        <p:spPr>
          <a:xfrm>
            <a:off x="5943600" y="28195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Бактеријске 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447560"/>
            <a:ext cx="5334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ambria"/>
              </a:rPr>
              <a:t>Листери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Listeria monocytogenes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, грам позитивни штапић, интрацелуларни параз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Феко-орална инфекција мајке, ингестијом контаминиране воде или х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мајке асимптоматска или у виду грипозног синдр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плода: трансплацентарни пренос или током проласка кроз заражени порођајни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Content Placeholder 4" descr="listerija 3.jpg"/>
          <p:cNvPicPr/>
          <p:nvPr/>
        </p:nvPicPr>
        <p:blipFill>
          <a:blip r:embed="rId1"/>
          <a:stretch/>
        </p:blipFill>
        <p:spPr>
          <a:xfrm>
            <a:off x="5446800" y="2971800"/>
            <a:ext cx="35082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атогенеза листериоз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1" name="Content Placeholder 3" descr="listerija patogeneya.jpg"/>
          <p:cNvPicPr/>
          <p:nvPr/>
        </p:nvPicPr>
        <p:blipFill>
          <a:blip r:embed="rId1"/>
          <a:stretch/>
        </p:blipFill>
        <p:spPr>
          <a:xfrm>
            <a:off x="762120" y="1676520"/>
            <a:ext cx="7286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а инфекциј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Listeriom monocytogen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следице интраутерине инфекције по пл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борт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нтраутерина смрт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времено рађање инфицираног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Неонатална инфекција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 Listeriom monocytogene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Трансплацентарни пренос у  трећем триместру или проласком кроз порођајни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Granulomatosis infrantiseptica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тешка слика милијарне болести, смртност 90%, преживели често имају секве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ана новорођеначка сепса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е разликује се од сепсе других узрочника, углавном се не манифестује менигитисом, преживели ретко имaју неуролошке секвел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асна новорођеначка сепса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стаје након инфекције у порођајном каналу, манифестује се у трћеој недељи и уобичајено је да се јавља менингоенцефа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Саставни делови овулума код труднице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Picture 2" descr="D:\intrauterine predavanje Bilja\anatomija placente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349880"/>
          </a:xfrm>
          <a:prstGeom prst="rect">
            <a:avLst/>
          </a:prstGeom>
          <a:ln w="0">
            <a:noFill/>
          </a:ln>
        </p:spPr>
      </p:pic>
    </p:spTree>
  </p:cSld>
  <p:transition advTm="54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 и терапија листериоз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519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Дијагн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ултивација- ликвор, крв, бриса ждрела, урина, размаз меконијума бојеном по Гр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еролошка дијагностика- аглутинација, детекција антитела на листериолизин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mpicilin или Penicilin уз Аminoglikozide због бактерицидног деј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од алергичних  Kotrimoksaz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Content Placeholder 5" descr="kultura listerijs.jpg"/>
          <p:cNvPicPr/>
          <p:nvPr/>
        </p:nvPicPr>
        <p:blipFill>
          <a:blip r:embed="rId1"/>
          <a:stretch/>
        </p:blipFill>
        <p:spPr>
          <a:xfrm>
            <a:off x="5638680" y="3048120"/>
            <a:ext cx="3251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еринатална инфекција стрептококом групе Б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Узрочник је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ß хемолитички стрептокок групе 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ација труднице вагине или урет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труднице: ендометритис, уринарна инфекција, сепса, менингитис, абдоминални апсц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 новорођенчета: првих седам дана по рођењу, респираторни дистрес, сепса,  менингитис, пустуле по ко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Content Placeholder 6" descr="streptokok 1.jpg"/>
          <p:cNvPicPr/>
          <p:nvPr/>
        </p:nvPicPr>
        <p:blipFill>
          <a:blip r:embed="rId1"/>
          <a:stretch/>
        </p:blipFill>
        <p:spPr>
          <a:xfrm>
            <a:off x="5257800" y="2666880"/>
            <a:ext cx="36576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62160" y="533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Verdana"/>
                <a:ea typeface="Verdana"/>
              </a:rPr>
              <a:t>Дијагноза и терап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3" name="Picture Placeholder 7" descr="streptokok kultura.jpg"/>
          <p:cNvPicPr/>
          <p:nvPr/>
        </p:nvPicPr>
        <p:blipFill>
          <a:blip r:embed="rId1"/>
          <a:stretch/>
        </p:blipFill>
        <p:spPr>
          <a:xfrm>
            <a:off x="182520" y="1474920"/>
            <a:ext cx="4200480" cy="54496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51460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Дијагноза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- култивација бактерије из крви, цереброспиналне течности,  урина, ендотрахеалног аспи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Терапија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- Penicilin G, Ampicilin, 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19360" y="4191120"/>
            <a:ext cx="419076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Verdana"/>
                <a:ea typeface="Verdana"/>
              </a:rPr>
              <a:t>Хвала на пажњи</a:t>
            </a:r>
            <a:r>
              <a:rPr b="0" lang="en-US" sz="2800" spc="-1" strike="noStrike">
                <a:solidFill>
                  <a:srgbClr val="00b0f0"/>
                </a:solidFill>
                <a:latin typeface="Verdana"/>
                <a:ea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6" name="Content Placeholder 3" descr="images.jpg"/>
          <p:cNvPicPr/>
          <p:nvPr/>
        </p:nvPicPr>
        <p:blipFill>
          <a:blip r:embed="rId1"/>
          <a:stretch/>
        </p:blipFill>
        <p:spPr>
          <a:xfrm>
            <a:off x="457200" y="907920"/>
            <a:ext cx="3651120" cy="236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D:\intrauterine predavanje Bilja\images1.jpg"/>
          <p:cNvPicPr/>
          <p:nvPr/>
        </p:nvPicPr>
        <p:blipFill>
          <a:blip r:embed="rId2"/>
          <a:stretch/>
        </p:blipFill>
        <p:spPr>
          <a:xfrm>
            <a:off x="533520" y="4017960"/>
            <a:ext cx="3581280" cy="2031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D:\intrauterine predavanje Bilja\index3.jpg"/>
          <p:cNvPicPr/>
          <p:nvPr/>
        </p:nvPicPr>
        <p:blipFill>
          <a:blip r:embed="rId3"/>
          <a:stretch/>
        </p:blipFill>
        <p:spPr>
          <a:xfrm>
            <a:off x="5791320" y="914400"/>
            <a:ext cx="207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Фактори који утичу на настанак инфекциј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Зрелост плода у моменту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мунолошки статус труд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чуваност плаценте, односно овул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рста, бројност и вирулентност микроорганиз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диспонирајући фактор: физиолошка имунодефицијенција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Verdana"/>
              </a:rPr>
              <a:t>Последице инфекција у току трудноће по плод </a:t>
            </a:r>
            <a:br>
              <a:rPr sz="39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Спонтани побач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Интраутерина смрт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Превремено рођење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са конгениталним малформа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са системским инфек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ниске порођајне ма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наизлед здравог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Verdan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тиолошки узрочници инфекција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рус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Rub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99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isteria monocytog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Cytomegal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Streptococcus grupe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Herpes simplex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Treponema pallid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Varicella zoster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C</a:t>
                      </a:r>
                      <a:r>
                        <a:rPr b="0" lang="sr-Latn-R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amy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arvo B 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Spirohe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Coxsackie i echoviru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тоз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IV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Toxoplasma gon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epatitis C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lasmo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epatitis B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apilloma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91440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линичка слика зависи од времена настанка инфекције током трудноћ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линички симптоми су често неспецифич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азличити узрочници дају сличну клиничку сл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Клиничка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слика слична другим стањима неинфективне етиолог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Неопходна брза етиолошка 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Content Placeholder 10" descr="beba konge.jpg"/>
          <p:cNvPicPr/>
          <p:nvPr/>
        </p:nvPicPr>
        <p:blipFill>
          <a:blip r:embed="rId1"/>
          <a:stretch/>
        </p:blipFill>
        <p:spPr>
          <a:xfrm>
            <a:off x="4952880" y="1828800"/>
            <a:ext cx="393228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ТОRCH  синдром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560" y="1218960"/>
            <a:ext cx="5562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едицински акроним за синдром дисеминованих интраутериних инфек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oxoplasma gondii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THER INFECTION (druge infekcije): VZV, Parvo B19, Syphylis., Listeri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ubella virus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ytomegalovirus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erpes symplex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8" descr="trudnica.jpg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</dc:creator>
  <dc:description/>
  <dc:language>en-US</dc:language>
  <cp:lastModifiedBy>Predrag Canovic</cp:lastModifiedBy>
  <dcterms:modified xsi:type="dcterms:W3CDTF">2024-01-31T18:31:25Z</dcterms:modified>
  <cp:revision>159</cp:revision>
  <dc:subject/>
  <dc:title>Slide 1</dc:title>
</cp:coreProperties>
</file>